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27E-3313-4C02-A122-BD2B850B8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361-82F6-4063-B087-1A8795B2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9C5-2D95-4D9B-A1B0-B0A2173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E79-BBBD-48FC-820C-84FF59E7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CB3-E513-42D3-82FD-C87D4216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9AE1-B7F9-4B09-BCEB-42FC6D90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9BED-D41E-443B-8B1A-1460E93E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4868-4EEB-4C71-8852-5EB7991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1DC1-80A3-4830-91FA-BD58A9C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F6A-B7BB-4AE7-B18B-720FABA5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B3AC-62A7-4D45-A74C-0E823F4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960-6AFC-458C-AB1F-C81CE1B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C3A-8C15-4251-8D0F-1C809220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3D4-952E-4F44-B0F8-AF45152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71F4-DA27-4889-B970-3BA6948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60C-7C0C-485F-8666-42302F8F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DE5E-3AC3-4BC2-A43D-60518DAB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E377-33FF-42F7-9373-44206CB6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14B-C7CD-4DA4-94B6-7AF3852E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F23-40C5-491B-BE5F-CD168A9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CD2-B229-4C30-8BE0-C03A029C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3EC-D800-4860-8119-EAABA20F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CDC-B7E8-49CC-9606-EE8CB24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5AF4-543B-471E-850F-03566C0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E2A-3015-40F1-98AC-6361A78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5043-FA80-4FBA-84E6-AD16F73943E8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3EBB-A8CD-4BC5-B3B3-EECC2FE94F2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mcruffy.com/Images/PatternBlocks.jpg&amp;imgrefurl=http://www.mcruffy.com/HandsOnMath.htm&amp;usg=__Dx1IV1nrXghiA2HkEF7DiMLSrOc=&amp;h=655&amp;w=997&amp;sz=69&amp;hl=en&amp;start=2&amp;tbnid=DnfM070keAMGgM:&amp;tbnh=98&amp;tbnw=149&amp;prev=/images%3Fq%3Dpattern%2Bblock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4495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Linear Relations Day 4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20, 2009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Greg Clarke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Linear Expressions 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Representation Activity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0400" y="2664000"/>
            <a:ext cx="2141640" cy="1220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05320" y="2676600"/>
            <a:ext cx="2067120" cy="1184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949400" y="4191120"/>
            <a:ext cx="2273400" cy="1280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253120" y="4079880"/>
            <a:ext cx="2079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your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cument"/>
          <p:cNvSpPr/>
          <p:nvPr/>
        </p:nvSpPr>
        <p:spPr>
          <a:xfrm>
            <a:off x="1219320" y="256392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cument"/>
          <p:cNvSpPr/>
          <p:nvPr/>
        </p:nvSpPr>
        <p:spPr>
          <a:xfrm>
            <a:off x="2408400" y="29732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cument"/>
          <p:cNvSpPr/>
          <p:nvPr/>
        </p:nvSpPr>
        <p:spPr>
          <a:xfrm>
            <a:off x="3672000" y="333684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cument"/>
          <p:cNvSpPr/>
          <p:nvPr/>
        </p:nvSpPr>
        <p:spPr>
          <a:xfrm>
            <a:off x="4883040" y="33894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cument"/>
          <p:cNvSpPr/>
          <p:nvPr/>
        </p:nvSpPr>
        <p:spPr>
          <a:xfrm>
            <a:off x="6159600" y="27846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7383600" y="2044800"/>
            <a:ext cx="976320" cy="1285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2689200"/>
            <a:ext cx="255600" cy="255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37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75000" y="3321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How can we open this up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3680" y="1889280"/>
            <a:ext cx="6040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400" y="2165400"/>
            <a:ext cx="6697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1: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a cost to each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your picture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s Your Picture Worth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88040" y="1523880"/>
            <a:ext cx="254952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2400" y="2165400"/>
            <a:ext cx="6697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  I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you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represent your pictures comb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algebraic expression to compare your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5800" y="59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ing Equations using Gizmo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14440" y="1612800"/>
            <a:ext cx="6121440" cy="379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556740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6 – 8 Algebra                                                           Solving expressions, equations and inequalities         Modeling One Step Equations – Activit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Using Algebra Til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) 2x + 3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) 5x + 1 = 2x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) x – 2 = -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381600">
            <a:off x="5470920" y="4034520"/>
            <a:ext cx="2206800" cy="430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4398840"/>
            <a:ext cx="43020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84440" y="1965240"/>
            <a:ext cx="5830920" cy="4676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: </a:t>
            </a:r>
            <a:br>
              <a:rPr sz="40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National Library of Virtual Manipulative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Solving Equations By Graphing Each Side: Gizmo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40040" y="2257560"/>
            <a:ext cx="5667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 In pai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200" y="21510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n open task for solving equ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986200" y="3719520"/>
            <a:ext cx="3698640" cy="2478240"/>
            <a:chOff x="2986200" y="3719520"/>
            <a:chExt cx="3698640" cy="2478240"/>
          </a:xfrm>
        </p:grpSpPr>
        <p:sp>
          <p:nvSpPr>
            <p:cNvPr id="115" name="Cloud"/>
            <p:cNvSpPr/>
            <p:nvPr/>
          </p:nvSpPr>
          <p:spPr>
            <a:xfrm>
              <a:off x="2986200" y="3719520"/>
              <a:ext cx="3698640" cy="24782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7800" y="4316400"/>
              <a:ext cx="336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change Open Task with another Pair.   Try it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132600" y="4498920"/>
            <a:ext cx="2098440" cy="1406520"/>
            <a:chOff x="6132600" y="4498920"/>
            <a:chExt cx="2098440" cy="1406520"/>
          </a:xfrm>
        </p:grpSpPr>
        <p:sp>
          <p:nvSpPr>
            <p:cNvPr id="118" name="Cloud"/>
            <p:cNvSpPr/>
            <p:nvPr/>
          </p:nvSpPr>
          <p:spPr>
            <a:xfrm>
              <a:off x="6132600" y="4498920"/>
              <a:ext cx="2098440" cy="140652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13400" y="4813200"/>
              <a:ext cx="156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 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09-08-05T12:18:14Z</dcterms:modified>
  <cp:revision>94</cp:revision>
  <dc:subject/>
  <dc:title>Slide 1</dc:title>
</cp:coreProperties>
</file>